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6F0A-3CDA-429C-84AA-9B96AF52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502-B0A0-416F-9548-F4D7225C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90B33-6753-48A1-AD2A-737C4FF6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EF2B4-799E-4D66-B810-FDD0BC85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16C2A-18D5-4B77-ABC1-53834BF2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51358-23B6-46A7-9DD1-A72D8126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738A1-5F89-464D-9D3D-BBF9CCE5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AE0B7-216C-4B40-B696-164C5E8F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B48CB-D08E-4419-A69A-AE063898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2D683-A574-4F7B-BA33-CB6E1F6B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AB718-1025-435B-BDB8-34C076DD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B7CC8-DD8B-4C10-B8BF-49E64522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98E-E240-4356-9C53-D068FF0A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9F82C-FBAD-4206-A5D2-C70213F1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7BEF7-B02F-41C6-A8EB-63FEBCAB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ADEF9-D4C5-4B21-96BC-77331835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96810-AFC8-4450-81BC-8079815C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8A415-B960-49B1-B758-11526D49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AB6E8-5D07-47F4-BC11-740673D0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87008-8FE4-4F73-9691-09C60ED3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D6351-D956-4780-B701-D22FF202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8E92D-B00E-4767-B59B-58ACB853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D4876-9F68-4CBE-B69B-50A5923F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772-0863-4EE1-BD7B-F79C0908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C49DC-AE95-4BAB-89D9-04F3C389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551A9-3DB4-4ABF-A9BD-B851550F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CB5A2-3141-4630-8B45-989CBAF2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8019F-A74A-4E31-82DA-F8664FD5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5BF8D-BC4C-495C-BB44-2B419DDD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0506F-29B3-430C-87F9-1486A86B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3F00B-EF73-44BD-B8A9-F8DD7871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1B1FA-2B73-4839-B114-E69425B0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B0911-EB25-4E7A-A48B-DBFC811A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4514E-D221-4389-8BE7-1C239566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DAAF-9D7A-45B8-91AC-5C9C7D68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6E229-A6D9-4D72-A78C-70A92F92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59F93-C260-4DDC-B3E3-3354EF08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F10DF-EA31-4726-BF97-B989C34D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5D2D7-BB3D-414E-A934-45FEB514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B22AF-69E3-4946-BE4A-80528AAF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6F334-E47F-43B8-A406-6B1206E7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7330D-CB11-4329-975B-57C78FCE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06C50-9DAC-4B1D-BA63-31EC4D8B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FCA7F-ACEA-4653-8A9A-6EDA0772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B7047-9950-48FC-901D-AF7170BC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DEDD-0BB9-443B-8DE6-A0AEC757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C98E7-1AA5-41C5-8A9A-516E9892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D7EA0-BDF5-4D7F-AF7A-1080E761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A9139-E481-49FA-BEAE-1802EA7C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AC003-403B-44E3-9895-66AC33F0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C28B9-E475-4597-8A8E-DC02AD7C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E7D2-AD07-4331-BABE-AA3DA374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9077-23DE-401E-9C24-B0BB71CF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CF3F-2753-4295-95C7-11E268AA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F63D-50FD-4D15-8D83-9CE56456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02DC-94C4-4368-BEFC-16CA1E49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982-3B99-44E9-AB4E-418735A5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B6A9-C0B1-4A13-B236-E0D9BF93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EB69-476C-4533-87AA-A1DA41D6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E334-2D13-4068-8C15-45301E22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8A28-DE30-4F19-8476-0CFCE9A6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3316-CC3A-47F5-8F13-E9D2CF4D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354B1-B333-41D4-8A6E-21F2450B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1FBDA-4D50-48E9-A21B-93034A54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A9E9-9B4B-4413-8125-13FEAD37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F6C57-2B61-41A4-AD8A-971FBB3C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8590-34A2-4CFD-A517-943F281A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6F3-6FDA-4970-8B1D-D856A27D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1D7B7-6C3F-4D4F-B334-E54B22C9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5F947-3FB6-40F5-A278-4A3C159D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CFD4-22D2-438D-95B1-CBD7AB83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0F758-FDCB-48F6-B6DD-D7C7484E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7635-4015-4870-8313-32A60E77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4D79C-45FE-4994-9F09-140EC73C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4D6DA-DAC7-4549-9C58-0DD1CD96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42759-9A59-4D40-A7AD-8EE5F666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94181-31B5-4CA7-91EF-5C703311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E8EC-591D-4174-ABE5-53CF6A60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618-F526-4AC8-B3AF-EFD8C4B6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4E2D7-CDE0-46D9-880D-88CBEC9C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B8D62-A9AC-4E35-BD4E-22ED63D1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D78A-C5A3-48D6-9F49-7E0F7722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D797E-8C52-48DB-A7C4-B2D8FB44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C40D4-EE01-4C34-BAD9-B81F1F5A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899E4-9BFA-47CD-97A2-C52B9D7F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289D0-A573-410B-90F4-7CB440A8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3C781-E3C8-4F6B-B65D-9FF8BB11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23483-18DC-4F0F-958A-67D9E6B2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5BEC7-CCA7-426D-87B8-547211B7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1E9-BA98-4E12-82D9-1F5C9639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E0A64-E8DA-4A53-AEE3-F089EF3D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6DF0E-1483-4F6E-9965-CA75729C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8437F-324E-415C-965A-C9F61173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1DC30-94CC-4894-AF88-7B1B8E67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FD80A-F5B8-4E3C-8FAB-197612AE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7843C-CED3-47FD-8DC5-2DB36A02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E2077-22DA-4C5C-8335-96D4FFFE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16773-812C-43B9-A1C8-965D9ABB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06FA6-5D30-413D-B715-59749EA1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C9ADB-F578-4C9F-BE39-6F24FFFF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703-4649-453A-AB69-54B8145C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68220-7C6C-4025-85EF-64C9559C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173C4-750A-4EC8-A1D9-FDB503EA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27095-1C19-4BCB-AAE5-C616184A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C3282-D957-484A-AAE1-74D3B4D7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FF3F4-7536-4160-9A72-B4DA93AC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2A656-FAED-4807-94CA-BEDB747B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DB624-FF3D-4B0E-809B-2FAA85D1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AEC50-71AE-4D1A-B7D4-9AAFC517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911E9-4476-4AB0-BBEC-77A3A03A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A8752-78B1-44D4-AD61-67CDB625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AAA-4C40-458F-B56F-2C28584F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554B2-1578-4EBB-9215-DDD819C9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B652D-942D-4A7B-821B-75FC68D2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D1FEE-33F7-4492-A817-15541F76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65C58-3AC6-4C9A-AA7B-5CEC5E7C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7C5B3-D963-47EC-A7A0-AEC606E5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BA5B6-7F75-4437-A694-8099F581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7C525-E17E-4A3C-A1E1-5967734C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F28FE-74AC-485A-B495-BC853CD5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D0E5C-4063-49B8-94B7-392CE4AA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4ED5E-C779-45DE-8684-40528787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D04-56D3-4DFD-89EA-852903C8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3E5A3-80B5-49A7-89C6-BFBBE47C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393CB-6F2E-43C1-89BF-92951273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16236-8D8E-4ABF-81E5-558DDE40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A8F35-0F6C-4ECE-8902-7F8B95C2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40810-0B81-46AF-9AAD-8247E8EA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B5A9A-95E8-4C51-8431-60EC229F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DC188-196B-47FB-BD07-0EBFB311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3B078-891A-429A-BA96-020CB187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4FAA1-6580-42A0-8D93-6DECEC3B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C33D0-7FC6-40C1-9F17-6FCC7A1A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109-B9A8-43BD-94CD-84979D3B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61433-2802-44A3-8D2D-B3F6740D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9AFBB-D76B-45B8-AFD5-689AF272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86B59-9252-4052-A23B-F606F0C0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B36DE-F36D-4500-A27F-BEF93454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18FB0-BB85-4A61-9719-46D3688D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34EEF-3F5C-47BA-96D9-41ED3D76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485DC-E6C3-43E4-8E19-C7A49AD8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B96D5-4A81-4811-8D4D-A36235EA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4D261-E483-4981-94C3-BF68077E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F23FE-79A0-4F58-9822-F9C35843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708E-1353-4AFF-80CE-9CFA07A0F73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7F13-8112-4A6C-B22A-2BB70DCD146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2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5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6CFC-73A5-4EAE-95BA-ED3923B78CD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9059-010F-454D-8216-6ECF4DDAB90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C08C-0273-47D2-8417-DF7A3CA2D96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6AFB-9FFC-43E8-9196-DE04A58B940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ABEC-E381-4730-88A1-732E18C87F0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92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5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755D-3850-4A0C-86EA-9A41F5A6415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2081-ABDC-476A-970C-458B86E38E0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6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9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6022-AB9F-4B7A-A062-D9AF6FBAF65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037F-865B-4846-9144-BC27837D7E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MICS4 Survey Design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F710-D117-44B3-9A0C-F54BCC77A1C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Rectangle 2" descr=""/>
          <p:cNvPicPr/>
          <p:nvPr/>
        </p:nvPicPr>
        <p:blipFill>
          <a:blip r:embed="rId2"/>
          <a:stretch/>
        </p:blipFill>
        <p:spPr>
          <a:xfrm>
            <a:off x="487440" y="1225440"/>
            <a:ext cx="8388360" cy="162108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837720" y="327636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Saysettha OT"/>
                <a:cs typeface="Saysettha OT"/>
              </a:rPr>
              <a:t>ແບບສອບຖາມສຳຫລັບແມ່ຍິງ</a:t>
            </a:r>
            <a:r>
              <a:rPr b="1" lang="en-US" sz="3600" spc="-1" strike="noStrike">
                <a:solidFill>
                  <a:srgbClr val="0099ff"/>
                </a:solidFill>
                <a:latin typeface="Saysettha OT"/>
                <a:ea typeface="Saysettha OT"/>
              </a:rPr>
              <a:t>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ພາກ</a:t>
            </a:r>
            <a:r>
              <a:rPr b="1" lang="lo-LA" sz="3600" spc="-1" strike="noStrike">
                <a:solidFill>
                  <a:srgbClr val="0099ff"/>
                </a:solidFill>
                <a:latin typeface="Saysettha OT"/>
                <a:cs typeface="Saysettha OT"/>
              </a:rPr>
              <a:t>ພຶດຕິກຳໃນການມີເພດສຳພັນ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Rectangle 17"/>
          <p:cNvSpPr/>
          <p:nvPr/>
        </p:nvSpPr>
        <p:spPr>
          <a:xfrm>
            <a:off x="457200" y="2819520"/>
            <a:ext cx="8229600" cy="75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Rectangle 2" descr=""/>
          <p:cNvPicPr/>
          <p:nvPr/>
        </p:nvPicPr>
        <p:blipFill>
          <a:blip r:embed="rId1"/>
          <a:stretch/>
        </p:blipFill>
        <p:spPr>
          <a:xfrm>
            <a:off x="30240" y="450720"/>
            <a:ext cx="2871720" cy="10242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380880" y="15238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ເພື່ອວັດແທກພຶດຕິກຳຂອງຈຳພວກແມ່ຍິງທີ່ພາໃຫ້ພວກເຂົາມີຄວາມສ່ຽງຕໍ່ການຕິດເຊື້ອເຮັດໄອວີ 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HIV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)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ເພີ່ມຂື້ນ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ເພື່ອຕິດຕາມກວດກາຄວາມຄືບໜ້າແລະຜົນສຳເລັດ ວັດຖຸປະສົງແລະເປົ້າໝາຍກ່ຽວກັບການກັນຕໍ່ເຊື້ອເຮັດໄອວີລະດັບຊາດ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2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ເພື່ອຕິດຕາມກວດກາຄວາມຄືບໜ້າແລະຜົນສຳເລັດ ວັດຖຸປະສົງແລະການໃຫ້ຄຳໝັ້ນສັນຍາລະຫວ່າງຊາດ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– 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ເຊັ່ນ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MDG 6 </a:t>
            </a:r>
            <a:r>
              <a:rPr b="1" lang="lo-LA" sz="26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ແລະ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US" sz="2600" spc="-1" strike="noStrike">
                <a:solidFill>
                  <a:srgbClr val="0070c0"/>
                </a:solidFill>
                <a:latin typeface="Saysettha OT"/>
                <a:ea typeface="Saysettha OT"/>
              </a:rPr>
              <a:t>UNGAS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0242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2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ບັນດາຄຳຖາມແມ່ນຖາມແມ່ຍິງທຸກຄົນທີ່ມີອາຍຸ    </a:t>
            </a:r>
            <a:r>
              <a:rPr b="1" lang="en-US" sz="3200" spc="-1" strike="noStrike">
                <a:solidFill>
                  <a:srgbClr val="0070c0"/>
                </a:solidFill>
                <a:latin typeface="Saysettha OT"/>
                <a:ea typeface="Saysettha OT"/>
              </a:rPr>
              <a:t>15-49 </a:t>
            </a:r>
            <a:r>
              <a:rPr b="1" lang="lo-LA" sz="32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ປີ ຢູ່ໃນຄົວເຮືອນ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Rectangle 2" descr=""/>
          <p:cNvPicPr/>
          <p:nvPr/>
        </p:nvPicPr>
        <p:blipFill>
          <a:blip r:embed="rId1"/>
          <a:stretch/>
        </p:blipFill>
        <p:spPr>
          <a:xfrm>
            <a:off x="182520" y="298440"/>
            <a:ext cx="5157720" cy="117648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30492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ການສຳພາດຕ້ອງດຳເນີນໃນບ່ອນທີ່ເປັນສ່ວນຕົວ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1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ຕ້ອງຮັບປະກັນວ່າຄຳຕອບຂອງຜູ້ຖືກສຳພາດທັງໝົດແມ່ນຖືກເກັບຮັກສາໄວ້ເປັນຄວາມລັບ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1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ຄຳຖາມເຫຼົ່ານີ້ອາດຈະສ້າງຄວາມເຂີນອາຍໃຫ້ແກ່ຜູ້ຕອບບາງຄົນ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;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ດັ່ງນັ້ນການຖາມພວກເຂົາກ່ຽວກັບສະພາບຄວາມເປັນຈິງທີ່ເກີດຂື້ນແລະບໍ່ຄວນເຮັດໃຫ້ພວກເຂົາຮູ້ສຶກມີຄວາມເຂີນອາຍຍ້ອນພຶດຕິກຳໃນການຊັກຖາມຂອງທ່ານເອງ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1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ທ່າທີທີ່ໂຕ້ຕອບກັບທີ່ມັກເກີດສຳລັບບຸກຄົນຜູ້ທີ່ມີຄວາມເຂີນອາຍແມ່ນການຫົວ ຫຼື ຫົວຂວັນ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1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ຖ້າທ່ານຫົວຕອບກັບ</a:t>
            </a:r>
            <a:r>
              <a:rPr b="1" lang="en-US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ຫຼືສະແດງທ່າທີວ່າທ່ານເຂີນອາຍເຊັ່ນດຽວກັນ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, </a:t>
            </a:r>
            <a:r>
              <a:rPr b="1" lang="en-US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ມັນຈະເຮັດໃຫ້ຜູ້ຕອບສຳພາດຄິດວ່າຄຳຖາມນັ້ນບໍ່ຈິງຈັງ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1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Rectangle 2" descr=""/>
          <p:cNvPicPr/>
          <p:nvPr/>
        </p:nvPicPr>
        <p:blipFill>
          <a:blip r:embed="rId1"/>
          <a:stretch/>
        </p:blipFill>
        <p:spPr>
          <a:xfrm>
            <a:off x="182520" y="298440"/>
            <a:ext cx="5157720" cy="11588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ມັນມີຄວາມສຳຄັນທີ່ສຸດໃນເວລາທີ່ທ່ານອ່ານປະໂຫຽກທຳອິດ</a:t>
            </a:r>
            <a:r>
              <a:rPr b="1" lang="en-GB" sz="2800" spc="-1" strike="noStrike">
                <a:solidFill>
                  <a:srgbClr val="0070c0"/>
                </a:solidFill>
                <a:latin typeface="Saysettha OT"/>
                <a:ea typeface="Saysettha OT"/>
              </a:rPr>
              <a:t>, </a:t>
            </a:r>
            <a:r>
              <a:rPr b="1" lang="lo-LA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ແລະເນັ້ນຕໍ່ຜູ້ຕອບສຳພາດວ່າຄຳຕອບຂອງພວກເຂົາຈະຖືກຮັກສາໄວ້ເປັນຄວາມລັບສຸດຂີດ</a:t>
            </a:r>
            <a:r>
              <a:rPr b="1" lang="en-GB" sz="28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11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ໃນຂໍ້</a:t>
            </a:r>
            <a:r>
              <a:rPr b="1" lang="en-GB" sz="28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GB" sz="2800" spc="-1" strike="noStrike">
                <a:solidFill>
                  <a:srgbClr val="0070c0"/>
                </a:solidFill>
                <a:latin typeface="Saysettha OT"/>
                <a:ea typeface="Saysettha OT"/>
              </a:rPr>
              <a:t>SB1, </a:t>
            </a:r>
            <a:r>
              <a:rPr b="1" lang="lo-LA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ການຖາມອາຍຸຂອງຜູ້ຖືກສຳພາດແມ່ນໝາຍເຖີງອາຍຸໃນເວລາທີ່ລາວມີເພດສຳພັນຄັ້ງທຳອິດຊື່ງລາວເຄີຍມີ</a:t>
            </a:r>
            <a:r>
              <a:rPr b="1" lang="en-GB" sz="2800" spc="-1" strike="noStrike">
                <a:solidFill>
                  <a:srgbClr val="0070c0"/>
                </a:solidFill>
                <a:latin typeface="Saysettha OT"/>
                <a:ea typeface="Saysettha OT"/>
              </a:rPr>
              <a:t>. </a:t>
            </a:r>
            <a:r>
              <a:rPr b="1" lang="lo-LA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ມັນບໍ່ໄດ້ຖາມກ່ຽວກັບການມີເພດສຳພັນເທື່ອທຳອິດກັບຜົວ</a:t>
            </a:r>
            <a:r>
              <a:rPr b="1" lang="lo-LA" sz="2800" spc="-1" strike="noStrike">
                <a:solidFill>
                  <a:srgbClr val="0070c0"/>
                </a:solidFill>
                <a:latin typeface="Saysettha OT"/>
                <a:ea typeface="Saysettha OT"/>
              </a:rPr>
              <a:t>/</a:t>
            </a:r>
            <a:r>
              <a:rPr b="1" lang="lo-LA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ຄູ່ນອນໃນປະຈຸບັນຂອງລາວ</a:t>
            </a:r>
            <a:r>
              <a:rPr b="1" lang="en-GB" sz="2800" spc="-1" strike="noStrike">
                <a:solidFill>
                  <a:srgbClr val="0070c0"/>
                </a:solidFill>
                <a:latin typeface="Saysettha OT"/>
                <a:ea typeface="Saysettha OT"/>
              </a:rPr>
              <a:t>, </a:t>
            </a:r>
            <a:r>
              <a:rPr b="1" lang="lo-LA" sz="28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ແຕ່ມັນໝາຍເຖີງການມີເພດສຳພັນຄັ້ງທຳອິດໃນຊີວິດຂອງລາວ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11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Rectangle 2" descr=""/>
          <p:cNvPicPr/>
          <p:nvPr/>
        </p:nvPicPr>
        <p:blipFill>
          <a:blip r:embed="rId1"/>
          <a:stretch/>
        </p:blipFill>
        <p:spPr>
          <a:xfrm>
            <a:off x="182520" y="225360"/>
            <a:ext cx="5694480" cy="10065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304920" y="32763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ໃນຂໍ້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SB3,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ບັນທຶກຄຳຕອບຂອງຜູ້ຕອບສຳພາດໂດຍການໃຊ້ຫົວໜ່ວຍຂອງການວັດແທກອັນດຽວກັນທີ່ລາວໃຊ້ຢູ່ໃນຄຳຕອບຂອງລາວ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.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ຕົວຢ່າງ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,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ຖ້າລາວເວົ້າວ່າ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‘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3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ອາທິດຜ່ານມາ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’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,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ຂີດອ້ອມ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‘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2’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ແລະຂຽນ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‘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03’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ໃນບ່ອນຫວ່າງທີ່ປະໄວ້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.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ຖ້າລາວເວົ້າວ່າ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“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4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ມື້ຜ່ານມາ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,”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ຂີດອ້ອມ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‘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1’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ແລະຂຽນ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’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04’.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ຖ້າຜູ້ຕອບເວົ້າວ່າ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“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ມື້ຄືນນີ້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,”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ຂີດອ້ອມ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‘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1’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ແລະຂຽນ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‘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00’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ຖ້າຜູ້ຕອບສຳພາດບອກເປັນເດືອນ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,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ຕົວຢ່າງ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,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ຖ້າລາວວ່າ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“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ໃນເດືອນທັນວາ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,”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ໃຫ້ໄລ່ຈຳນວນເດືອນ</a:t>
            </a:r>
            <a:r>
              <a:rPr b="1" lang="en-US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 </a:t>
            </a:r>
            <a:r>
              <a:rPr b="1" lang="lo-LA" sz="2400" spc="-1" strike="noStrike">
                <a:solidFill>
                  <a:srgbClr val="0070c0"/>
                </a:solidFill>
                <a:latin typeface="Saysettha OT"/>
                <a:cs typeface="Saysettha OT"/>
              </a:rPr>
              <a:t>ແລະບັນທຶກຈຳນວນເດືອນໃສ່</a:t>
            </a:r>
            <a:r>
              <a:rPr b="1" lang="en-GB" sz="2400" spc="-1" strike="noStrike">
                <a:solidFill>
                  <a:srgbClr val="0070c0"/>
                </a:solidFill>
                <a:latin typeface="Saysettha OT"/>
                <a:ea typeface="Saysettha OT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609480" y="1143000"/>
          <a:ext cx="8077320" cy="2011320"/>
        </p:xfrm>
        <a:graphic>
          <a:graphicData uri="http://schemas.openxmlformats.org/drawingml/2006/table">
            <a:tbl>
              <a:tblPr/>
              <a:tblGrid>
                <a:gridCol w="3276720"/>
                <a:gridCol w="2895480"/>
                <a:gridCol w="190512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SB3. </a:t>
                      </a:r>
                      <a:r>
                        <a:rPr b="1" lang="lo-LA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ທ່ານ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-Ä©É-»È¸´-À²©-£˜¤-¦÷©</a:t>
                      </a:r>
                      <a:r>
                        <a:rPr b="1" lang="lo-LA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ທ້າຍເມື່ອໃດ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?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¡½ì÷­-¾®ñ­êô¡-À¯ñ­-¯ó «É¾-´ó-¡¾­-»È¸´-À²© 1 Íõ  Í¾¨-¯ó°È¾­´¾. </a:t>
                      </a:r>
                      <a:r>
                        <a:rPr b="1" lang="lo-LA" sz="1800" spc="-1" strike="noStrike">
                          <a:solidFill>
                            <a:srgbClr val="ffffff"/>
                          </a:solidFill>
                          <a:latin typeface="Saysettha Lao"/>
                          <a:ea typeface="DokChampa"/>
                        </a:rPr>
                        <a:t>  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«É¾- 12 -À©õº­- Íõ- Í¾¨-¡¸È¾­˜­ -Ã¹È®ñ­êô¡-À¯ñ­-¯ó-À§„­-¡ñ­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Í¾¨´œ°È¾­-´¾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	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1.__  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Í¾¨º¾êò©-°È¾­-´¾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	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2.__  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-Í¾¨À©õº­-°È¾­-´¾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	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3.__  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Í¾¨¯ó°È¾­´¾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	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Saysettha Lao"/>
                        </a:rPr>
                        <a:t>4.__  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1" lang="lo-LA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DokChampa"/>
                        </a:rPr>
                        <a:t> </a:t>
                      </a:r>
                      <a:r>
                        <a:rPr b="1" lang="lo-LA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ພາກຕໍ່ໄ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Title 1" descr=""/>
          <p:cNvPicPr/>
          <p:nvPr/>
        </p:nvPicPr>
        <p:blipFill>
          <a:blip r:embed="rId1"/>
          <a:stretch/>
        </p:blipFill>
        <p:spPr>
          <a:xfrm>
            <a:off x="225360" y="506520"/>
            <a:ext cx="8931240" cy="1736640"/>
          </a:xfrm>
          <a:prstGeom prst="rect">
            <a:avLst/>
          </a:prstGeom>
          <a:ln w="0">
            <a:noFill/>
          </a:ln>
        </p:spPr>
      </p:pic>
      <p:sp>
        <p:nvSpPr>
          <p:cNvPr id="564" name="Right Arrow 4"/>
          <p:cNvSpPr/>
          <p:nvPr/>
        </p:nvSpPr>
        <p:spPr>
          <a:xfrm>
            <a:off x="2590920" y="3048120"/>
            <a:ext cx="2743200" cy="14475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Rectangle 2" descr=""/>
          <p:cNvPicPr/>
          <p:nvPr/>
        </p:nvPicPr>
        <p:blipFill>
          <a:blip r:embed="rId1"/>
          <a:stretch/>
        </p:blipFill>
        <p:spPr>
          <a:xfrm>
            <a:off x="4627440" y="255600"/>
            <a:ext cx="3913200" cy="14508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SAOlao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"/>
          <p:cNvPicPr/>
          <p:nvPr/>
        </p:nvPicPr>
        <p:blipFill>
          <a:blip r:embed="rId3"/>
          <a:stretch/>
        </p:blipFill>
        <p:spPr>
          <a:xfrm>
            <a:off x="4859280" y="2205000"/>
            <a:ext cx="4284720" cy="465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19:38:17Z</dcterms:created>
  <dc:creator>eholmberg</dc:creator>
  <dc:description/>
  <dc:language>en-US</dc:language>
  <cp:lastModifiedBy>Corporate Edition</cp:lastModifiedBy>
  <dcterms:modified xsi:type="dcterms:W3CDTF">2011-08-16T02:49:49Z</dcterms:modified>
  <cp:revision>120</cp:revision>
  <dc:subject/>
  <dc:title>Slide 1</dc:title>
</cp:coreProperties>
</file>